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99EA-81E2-4E69-8219-BFBC3A9A1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D823-74C8-485E-B69C-C177E39AF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626B-55A3-4F04-A015-4F4997300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AE34-035B-4B23-83B1-60123E375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B898D-7FCF-4C58-BF88-7755DCDB3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BA3F8-03AF-4850-913F-6EC374F66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360F1-ED8A-41D6-9698-088EF9AD0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BC01E-4284-4B7E-8FBB-43F9A98DB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86862-9F38-4A25-BA1C-BF21BDE4C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C133B-481F-4D8F-BD50-5D019B2B2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11299-064F-4BFF-9919-E24212495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56FF-E169-437B-8296-457D0896C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B6F22-9E1B-4A9F-B40D-41A8B301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58522-4618-4686-9798-C4B01703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9A4A4-A4CB-4583-9A99-8D04D2121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D53FE-19E6-4392-BED1-E376BF8A4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0B2C7-2731-423C-9956-44C8642EC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1BE6-6F95-416A-96BE-336DDEB58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0214-C6B5-4413-A3F6-1DB2355EF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B6BD-EA64-4885-8579-085D5ECE1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6E45-9748-474E-9B2F-ECB5A7BF4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F1ED-398C-44C2-BDC6-0FC60737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5308-45C3-4908-9C76-5A020BD5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445E-A9BF-4C20-B0C8-42F83789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201AD-C3F3-43D4-A23B-7EB8EFC96472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19882-6816-4532-91C2-9376CFA86640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4642200" y="1222200"/>
            <a:ext cx="399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Comic Sans MS"/>
              </a:rPr>
              <a:t>Mae’r ci bach wedi cael ei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Comic Sans MS"/>
              </a:rPr>
              <a:t>glymu i bostyn gyda llinyn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Comic Sans MS"/>
              </a:rPr>
              <a:t>sy’n mesur 2 metr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611280" y="549360"/>
            <a:ext cx="3598920" cy="3098880"/>
            <a:chOff x="611280" y="549360"/>
            <a:chExt cx="3598920" cy="3098880"/>
          </a:xfrm>
        </p:grpSpPr>
        <p:grpSp>
          <p:nvGrpSpPr>
            <p:cNvPr id="214" name=""/>
            <p:cNvGrpSpPr/>
            <p:nvPr/>
          </p:nvGrpSpPr>
          <p:grpSpPr>
            <a:xfrm>
              <a:off x="611280" y="549360"/>
              <a:ext cx="2232000" cy="1582560"/>
              <a:chOff x="611280" y="549360"/>
              <a:chExt cx="2232000" cy="1582560"/>
            </a:xfrm>
          </p:grpSpPr>
          <p:sp>
            <p:nvSpPr>
              <p:cNvPr id="215" name=""/>
              <p:cNvSpPr/>
              <p:nvPr/>
            </p:nvSpPr>
            <p:spPr>
              <a:xfrm flipH="1" flipV="1">
                <a:off x="827280" y="738000"/>
                <a:ext cx="2016000" cy="936360"/>
              </a:xfrm>
              <a:prstGeom prst="line">
                <a:avLst/>
              </a:prstGeom>
              <a:ln w="10152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400000">
                <a:off x="36360" y="1123920"/>
                <a:ext cx="1582560" cy="433440"/>
              </a:xfrm>
              <a:custGeom>
                <a:avLst/>
                <a:gdLst>
                  <a:gd name="textAreaLeft" fmla="*/ 128160 w 1582560"/>
                  <a:gd name="textAreaRight" fmla="*/ 1454400 w 1582560"/>
                  <a:gd name="textAreaTop" fmla="*/ 34920 h 433440"/>
                  <a:gd name="textAreaBottom" fmla="*/ 398520 h 433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cc3300"/>
              </a:solidFill>
              <a:ln w="442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pic>
          <p:nvPicPr>
            <p:cNvPr id="217" name="" descr=""/>
            <p:cNvPicPr/>
            <p:nvPr/>
          </p:nvPicPr>
          <p:blipFill>
            <a:blip r:embed="rId1"/>
            <a:stretch/>
          </p:blipFill>
          <p:spPr>
            <a:xfrm>
              <a:off x="898560" y="549360"/>
              <a:ext cx="3311640" cy="3098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7020000" y="2852640"/>
            <a:ext cx="1152360" cy="11430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508320" y="4292640"/>
            <a:ext cx="582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Comic Sans MS"/>
              </a:rPr>
              <a:t>Mae’r ci bach eisiau chwarae gyda’r b</a:t>
            </a:r>
            <a:r>
              <a:rPr b="0" lang="en-US" sz="2400" spc="-1" strike="noStrike">
                <a:solidFill>
                  <a:srgbClr val="eaeaea"/>
                </a:solidFill>
                <a:latin typeface="Comic Sans MS"/>
              </a:rPr>
              <a:t>ê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9360" y="5013360"/>
            <a:ext cx="800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Comic Sans MS"/>
              </a:rPr>
              <a:t>Pa mor agos i’r postyn rhaid i’r b</a:t>
            </a:r>
            <a:r>
              <a:rPr b="0" lang="en-US" sz="2400" spc="-1" strike="noStrike">
                <a:solidFill>
                  <a:srgbClr val="eaeaea"/>
                </a:solidFill>
                <a:latin typeface="Comic Sans MS"/>
              </a:rPr>
              <a:t>ê</a:t>
            </a:r>
            <a:r>
              <a:rPr b="0" lang="en-GB" sz="2400" spc="-1" strike="noStrike">
                <a:solidFill>
                  <a:srgbClr val="eaeaea"/>
                </a:solidFill>
                <a:latin typeface="Comic Sans MS"/>
              </a:rPr>
              <a:t>l fod fel bod y ci bach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Comic Sans MS"/>
              </a:rPr>
              <a:t>yn gallu chwarae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"/>
          <p:cNvGrpSpPr/>
          <p:nvPr/>
        </p:nvGrpSpPr>
        <p:grpSpPr>
          <a:xfrm>
            <a:off x="1692360" y="620640"/>
            <a:ext cx="5594400" cy="5595120"/>
            <a:chOff x="1692360" y="620640"/>
            <a:chExt cx="5594400" cy="5595120"/>
          </a:xfrm>
        </p:grpSpPr>
        <p:grpSp>
          <p:nvGrpSpPr>
            <p:cNvPr id="222" name=""/>
            <p:cNvGrpSpPr/>
            <p:nvPr/>
          </p:nvGrpSpPr>
          <p:grpSpPr>
            <a:xfrm>
              <a:off x="1692360" y="620640"/>
              <a:ext cx="5594400" cy="5595120"/>
              <a:chOff x="1692360" y="620640"/>
              <a:chExt cx="5594400" cy="5595120"/>
            </a:xfrm>
          </p:grpSpPr>
          <p:grpSp>
            <p:nvGrpSpPr>
              <p:cNvPr id="223" name=""/>
              <p:cNvGrpSpPr/>
              <p:nvPr/>
            </p:nvGrpSpPr>
            <p:grpSpPr>
              <a:xfrm>
                <a:off x="1692360" y="620640"/>
                <a:ext cx="5594400" cy="1850400"/>
                <a:chOff x="1692360" y="620640"/>
                <a:chExt cx="5594400" cy="185040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4500720" y="620640"/>
                  <a:ext cx="914400" cy="9140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437440" y="620640"/>
                  <a:ext cx="914400" cy="9140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3564000" y="620640"/>
                  <a:ext cx="914400" cy="9140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2629080" y="620640"/>
                  <a:ext cx="914400" cy="9140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4500720" y="1557000"/>
                  <a:ext cx="914400" cy="9140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5437440" y="1557000"/>
                  <a:ext cx="914400" cy="9140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3564000" y="1557000"/>
                  <a:ext cx="914400" cy="9140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2629080" y="1557000"/>
                  <a:ext cx="914400" cy="9140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372360" y="1557000"/>
                  <a:ext cx="914400" cy="9140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6372360" y="620640"/>
                  <a:ext cx="914400" cy="9140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1692360" y="620640"/>
                  <a:ext cx="914400" cy="9140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1692360" y="1557000"/>
                  <a:ext cx="914400" cy="9140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1692360" y="2493720"/>
                <a:ext cx="5594400" cy="1850400"/>
                <a:chOff x="1692360" y="2493720"/>
                <a:chExt cx="5594400" cy="185040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4500720" y="2493720"/>
                  <a:ext cx="914400" cy="9140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5437440" y="2493720"/>
                  <a:ext cx="914400" cy="9140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3564000" y="2493720"/>
                  <a:ext cx="914400" cy="9140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629080" y="2493720"/>
                  <a:ext cx="914400" cy="9140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4500720" y="3430080"/>
                  <a:ext cx="914400" cy="9140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5437440" y="3430080"/>
                  <a:ext cx="914400" cy="9140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3564000" y="3430080"/>
                  <a:ext cx="914400" cy="9140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2629080" y="3430080"/>
                  <a:ext cx="914400" cy="9140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6372360" y="3430080"/>
                  <a:ext cx="914400" cy="9140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6372360" y="2493720"/>
                  <a:ext cx="914400" cy="9140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1692360" y="2493720"/>
                  <a:ext cx="914400" cy="9140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692360" y="3430080"/>
                  <a:ext cx="914400" cy="9140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1692360" y="4365360"/>
                <a:ext cx="5594400" cy="1850400"/>
                <a:chOff x="1692360" y="4365360"/>
                <a:chExt cx="5594400" cy="185040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4500720" y="4365360"/>
                  <a:ext cx="914400" cy="9140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5437440" y="4365360"/>
                  <a:ext cx="914400" cy="9140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3564000" y="4365360"/>
                  <a:ext cx="914400" cy="9140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2629080" y="4365360"/>
                  <a:ext cx="914400" cy="9140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500720" y="5301720"/>
                  <a:ext cx="914400" cy="9140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5437440" y="5301720"/>
                  <a:ext cx="914400" cy="9140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3564000" y="5301720"/>
                  <a:ext cx="914400" cy="9140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2629080" y="5301720"/>
                  <a:ext cx="914400" cy="9140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372360" y="5301720"/>
                  <a:ext cx="914400" cy="9140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372360" y="4365360"/>
                  <a:ext cx="914400" cy="9140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1692360" y="4365360"/>
                  <a:ext cx="914400" cy="9140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1692360" y="5301720"/>
                  <a:ext cx="914400" cy="9140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2" name=""/>
            <p:cNvSpPr/>
            <p:nvPr/>
          </p:nvSpPr>
          <p:spPr>
            <a:xfrm>
              <a:off x="4356360" y="3286080"/>
              <a:ext cx="287280" cy="28728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7451640" y="692280"/>
            <a:ext cx="563400" cy="792000"/>
            <a:chOff x="7451640" y="692280"/>
            <a:chExt cx="563400" cy="792000"/>
          </a:xfrm>
        </p:grpSpPr>
        <p:sp>
          <p:nvSpPr>
            <p:cNvPr id="264" name=""/>
            <p:cNvSpPr/>
            <p:nvPr/>
          </p:nvSpPr>
          <p:spPr>
            <a:xfrm>
              <a:off x="7451640" y="692280"/>
              <a:ext cx="0" cy="792000"/>
            </a:xfrm>
            <a:prstGeom prst="line">
              <a:avLst/>
            </a:prstGeom>
            <a:ln w="25560">
              <a:solidFill>
                <a:srgbClr val="eaeaea"/>
              </a:solidFill>
              <a:miter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453440" y="90792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1 m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6659640" y="1916280"/>
            <a:ext cx="142920" cy="14436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100000">
                <a:srgbClr val="00cc66"/>
              </a:gs>
            </a:gsLst>
            <a:lin ang="135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132000" y="3860640"/>
            <a:ext cx="142920" cy="14472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100000">
                <a:srgbClr val="00cc66"/>
              </a:gs>
            </a:gsLst>
            <a:lin ang="135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050920" y="1916280"/>
            <a:ext cx="142920" cy="14436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100000">
                <a:srgbClr val="00cc66"/>
              </a:gs>
            </a:gsLst>
            <a:lin ang="135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427640" y="1484280"/>
            <a:ext cx="142920" cy="14436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100000">
                <a:srgbClr val="00cc66"/>
              </a:gs>
            </a:gsLst>
            <a:lin ang="135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556000" y="3357720"/>
            <a:ext cx="142920" cy="14436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100000">
                <a:srgbClr val="00cc66"/>
              </a:gs>
            </a:gsLst>
            <a:lin ang="135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427640" y="5229360"/>
            <a:ext cx="142920" cy="14436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100000">
                <a:srgbClr val="00cc66"/>
              </a:gs>
            </a:gsLst>
            <a:lin ang="135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300720" y="3357720"/>
            <a:ext cx="142920" cy="14436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100000">
                <a:srgbClr val="00cc66"/>
              </a:gs>
            </a:gsLst>
            <a:lin ang="135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724360" y="1989000"/>
            <a:ext cx="142920" cy="14472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100000">
                <a:srgbClr val="00cc66"/>
              </a:gs>
            </a:gsLst>
            <a:lin ang="135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364000" y="5013360"/>
            <a:ext cx="142920" cy="14436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100000">
                <a:srgbClr val="00cc66"/>
              </a:gs>
            </a:gsLst>
            <a:lin ang="135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724360" y="4724280"/>
            <a:ext cx="142920" cy="14472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100000">
                <a:srgbClr val="00cc66"/>
              </a:gs>
            </a:gsLst>
            <a:lin ang="135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012000" y="4365720"/>
            <a:ext cx="142560" cy="14436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100000">
                <a:srgbClr val="00cc66"/>
              </a:gs>
            </a:gsLst>
            <a:lin ang="135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227640" y="3933720"/>
            <a:ext cx="142920" cy="14472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100000">
                <a:srgbClr val="00cc66"/>
              </a:gs>
            </a:gsLst>
            <a:lin ang="135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932360" y="5157720"/>
            <a:ext cx="142920" cy="14436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100000">
                <a:srgbClr val="00cc66"/>
              </a:gs>
            </a:gsLst>
            <a:lin ang="135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627280" y="1557360"/>
            <a:ext cx="3745080" cy="3743280"/>
          </a:xfrm>
          <a:prstGeom prst="ellipse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627280" y="1557360"/>
            <a:ext cx="3745080" cy="3743280"/>
          </a:xfrm>
          <a:prstGeom prst="ellipse">
            <a:avLst/>
          </a:prstGeom>
          <a:solidFill>
            <a:srgbClr val="00cc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4500360" y="3284640"/>
            <a:ext cx="1871640" cy="0"/>
          </a:xfrm>
          <a:prstGeom prst="line">
            <a:avLst/>
          </a:prstGeom>
          <a:ln w="44280">
            <a:solidFill>
              <a:srgbClr val="8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150160" y="292428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a"/>
                </a:solidFill>
                <a:latin typeface="Arial"/>
              </a:rPr>
              <a:t>2 m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611280" y="4321800"/>
            <a:ext cx="2529720" cy="1536840"/>
            <a:chOff x="611280" y="4321800"/>
            <a:chExt cx="2529720" cy="1536840"/>
          </a:xfrm>
        </p:grpSpPr>
        <p:sp>
          <p:nvSpPr>
            <p:cNvPr id="284" name=""/>
            <p:cNvSpPr/>
            <p:nvPr/>
          </p:nvSpPr>
          <p:spPr>
            <a:xfrm rot="19159200">
              <a:off x="2124000" y="4581360"/>
              <a:ext cx="976320" cy="486000"/>
            </a:xfrm>
            <a:prstGeom prst="rightArrow">
              <a:avLst>
                <a:gd name="adj1" fmla="val 50000"/>
                <a:gd name="adj2" fmla="val 50222"/>
              </a:avLst>
            </a:prstGeom>
            <a:solidFill>
              <a:srgbClr val="9933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11280" y="4941720"/>
              <a:ext cx="1873080" cy="91692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eaeaea"/>
                  </a:solidFill>
                  <a:latin typeface="Comic Sans MS"/>
                </a:rPr>
                <a:t>Locws yr holl bwyntiau sydd 2m o’r postyn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1T10:52:54Z</dcterms:created>
  <dc:creator>Carwyn</dc:creator>
  <dc:description/>
  <dc:language>en-US</dc:language>
  <cp:lastModifiedBy>Carwyn</cp:lastModifiedBy>
  <dcterms:modified xsi:type="dcterms:W3CDTF">2009-07-02T21:20:11Z</dcterms:modified>
  <cp:revision>6</cp:revision>
  <dc:subject/>
  <dc:title>Slide 1</dc:title>
</cp:coreProperties>
</file>